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C18-C8E2-466A-9E27-5816E87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391-AA4A-4228-AC79-1565258B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24D-908D-42B2-AABE-9498F5C2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385-6E91-411E-ABD9-2568E797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6E997-A52E-4A1D-9C23-C4CB5AAE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4228A-3FFF-4F31-9555-79C0870C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1042D-2A4A-48ED-A6A1-524E15CF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08F05-B561-4298-B099-8188DF71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14E35-1550-4CFC-A9B5-3162D70C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4F979-D575-4E25-87F7-8B488679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9C305-5E77-4EB0-8F61-E6221473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C2C-74B2-4F94-BEF7-DF56685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13687-40E9-4563-BF67-F5178BAD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011C4-4A18-4406-BED5-584CAAC5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4E2B8-30F3-4F90-9482-031A85B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D83F-B53B-4E69-BC7F-59A383D9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6B437-6466-43FC-91C6-437966B6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BC3C-D2D0-4D5F-983B-52436E6C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A8D-762D-4EBC-8C7A-2F47243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1AC-D9D1-4EF2-B8A0-25776D00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44B-8324-4BED-98C3-64F0482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FD2-1F0F-4B75-9B62-E2DD8F9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A6A-3D1E-4C9C-95A2-B8831D2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244-E498-4E1E-A512-D23C83E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930D-0C7D-411A-B03D-F468F3DC2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1EB7-8671-45F4-8BFB-EB3CE31A9B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United Kingdom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18-19; Psa.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23-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view Major Time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st of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81952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324480" y="3047760"/>
            <a:ext cx="10670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895480"/>
            <a:ext cx="137160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 the last 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ad become a hero in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defeat of the Philistine giant, Goli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 the aftermath of David’s heroic a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admires David – 1 Sa. 18:1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prospers in Saul’s service – 18:5-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has slain is 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his ten-thous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s that sent Saul into jealo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’s hatred for David grows – vs.10-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aul’s Jealous Hatr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s to his murderous p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is eyes David must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pleads for David’s life -19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l helps David escape – 8-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the stress of having his life threatened, David writes down this prayer –Psalm 5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salm 59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salmist prays for deliverance from his enemies, whose desperate wickedness he describes, v. 1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ofesses strong confidence in God, v. 8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peaks of the destruction of his enemies, v. 11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raises God for benefits already received; and determines to trust in Him, v. 16-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590920" y="380880"/>
            <a:ext cx="3895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avid Goes to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6340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048120" y="228600"/>
            <a:ext cx="280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odern Ram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733920" y="228600"/>
            <a:ext cx="1724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ma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343400" y="990720"/>
            <a:ext cx="76320" cy="3962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vid Finds God’s Prote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scientious Fri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ompany of prop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God’s power to turn things around 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.19:18-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3:08:52Z</dcterms:created>
  <dc:creator>Terry W. Benton</dc:creator>
  <dc:description/>
  <dc:language>en-US</dc:language>
  <cp:lastModifiedBy>Terry W. Benton</cp:lastModifiedBy>
  <dcterms:modified xsi:type="dcterms:W3CDTF">2005-04-12T14:57:08Z</dcterms:modified>
  <cp:revision>1</cp:revision>
  <dc:subject/>
  <dc:title>The United Kingdom</dc:title>
</cp:coreProperties>
</file>